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D8F-14F1-4CBB-8F1E-43C97F8D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517-5AE7-4AD1-A2A9-B92EEAC9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86B-A48F-4F1B-A6FF-16253994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8A9-9A3F-4831-8107-226AE294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358D-F8BC-43B9-8287-BDBE99B7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DF83-B2F0-46A4-A00D-798D4140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BCAE-56C5-4A30-B5D9-248737B7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6D08-CFE1-4729-B793-1CF834F8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ED1A-357B-462F-AB32-FF3B3114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9E68-5CAB-4513-B030-4ECAAF05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1AF0-2832-4458-8717-197AD7F7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BF8-49AD-4EEE-97D3-DEABA2F5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4A21-D58E-4DDB-B316-5E60A13F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BAA9-BB5E-48C6-A5C4-1CE0A3CB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942F-02C0-48E0-900D-117ADCA2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23CE-7830-47EA-A1B5-7172EBB6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A314-519E-4D17-B471-290BD55D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2C19-7229-440A-8C08-CA32502D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FF948-C82F-4EE3-91A6-147E7128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2D5B-7C48-43EE-B360-83A927B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42BC-2E25-4C9B-AED4-6CAE5B90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8384-A663-41CD-A435-EB30798B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13E-99AA-49AD-9AD0-2F0C298D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B6DD-F4E4-4F6E-A791-8E444B14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8B84-60A5-4245-95EB-BD84F39C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D43C3-A02E-4D1A-AAB4-CF28831E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90297-652F-4C17-9562-BDA797B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73BA3-59AB-4D95-99D6-24554BA6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0FCA-4C87-4C25-BDB9-2E7ECD85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603A-338E-41D8-B937-55831984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CC2-40F6-49BE-94C8-A9B061C7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625-D9B5-4D09-A41E-5F2DA5C9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F4C-CF33-4530-B1EE-FAF4057C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AA1-C8D1-4E7C-8780-972F38FE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A7B-1CB5-41D5-86C4-4D2BB39C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47D-C03F-40E5-8475-56E4477D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AE3E-1C19-447C-BC42-4450795A85C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44F1-9631-43C7-98E8-95ECA07F40E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1738-8093-413F-A0F9-C39CA4869F8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067280" y="3141720"/>
            <a:ext cx="50767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????Boutros Rokaa"/>
              </a:rPr>
              <a:t>يسوع أنت إله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876920" y="0"/>
            <a:ext cx="4114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تنحني لاسمِكَ كل رُكبَة ويعترف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كلّ لسان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140360" y="836640"/>
            <a:ext cx="500220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سمُك يسوع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خلاص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ُرَدّدُه ف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كلِّ حين.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سجُدُ أمامَ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إله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عترفُ 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مَلِك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29080" y="189000"/>
            <a:ext cx="4680000" cy="626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ها هي حياتي في يديكَ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إفعلْ بها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ما تُريد.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15920"/>
            <a:ext cx="5029200" cy="642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44280"/>
            <a:ext cx="4647960" cy="65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91000" y="0"/>
            <a:ext cx="5553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0"/>
            <a:ext cx="3886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تعالَ واملُكْ على قلبي أتوقُ إليكَ تعال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47800" y="171360"/>
            <a:ext cx="4911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تُرنِّمُ لكَ شفتايَ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أحبُّك للأبدِ.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7T20:40:08Z</dcterms:created>
  <dc:creator>Charbel Azar</dc:creator>
  <dc:description/>
  <dc:language>en-US</dc:language>
  <cp:lastModifiedBy>ف</cp:lastModifiedBy>
  <dcterms:modified xsi:type="dcterms:W3CDTF">2006-07-04T10:59:33Z</dcterms:modified>
  <cp:revision>13</cp:revision>
  <dc:subject/>
  <dc:title>PowerPoint Presentation</dc:title>
</cp:coreProperties>
</file>